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1F5-6A9C-4032-B78B-AC2FF628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8D8-85BF-41F1-BE5A-4C3CB949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2B0-449A-45AC-AC18-74AE63A6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9B8-7911-49BF-9A40-0BFBC051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F3A-88BD-4F56-BBBA-15A23291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F62-65AC-47AF-BFC5-07B7D79E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499-AE63-4144-88FF-ABA03F9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B5E-18AF-4B76-B86C-1668BE55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E0C-7FA7-462C-B95E-318F7EC4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C48-203A-48AB-BBCA-75D6448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E90-FC50-400D-81AD-DB750CF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417-1657-4433-B04D-F65E0F5B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B106-4E93-4C9C-9380-2B7945012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lip it Forward!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ke and share mov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Macintosh HD:Users:jposer:Documents:jobs:new paltz:time travel:60_minutes.mov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0640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6840" y="528480"/>
            <a:ext cx="841032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lip it Forward Workshop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ot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video to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Teachertube ac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 video to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h shoot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video that is at least 3 minutes lo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n ‘educational’ video- teach us how to do someth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a ‘rebus’- a visual puzzle in which words are represented by combinations of pictures and lett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topic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video of frivolous and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monsters or food or feelings or things that begin with the letter Zor something about the weather or things that are furry or feathery or fuzz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ransferring video to the compu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B connection ‘flips’ out of the came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see the camera appear on the desktop, double click on the camera ic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he folder labeled DC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video will be in the folder 100VIDE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ploading to the Intern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tube and Teachertu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n accou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9:32:15Z</dcterms:created>
  <dc:creator>Jessica Poser</dc:creator>
  <dc:description/>
  <dc:language>en-US</dc:language>
  <cp:lastModifiedBy>Jessica Poser</cp:lastModifiedBy>
  <dcterms:modified xsi:type="dcterms:W3CDTF">2010-05-01T01:06:29Z</dcterms:modified>
  <cp:revision>6</cp:revision>
  <dc:subject/>
  <dc:title>Flip it Forward! Make and share movies</dc:title>
</cp:coreProperties>
</file>